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C144-CD04-4E54-8C31-C77FDE437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5BB7-1B98-44CB-8B87-4BBD71962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150A-2DE5-4B54-8E88-7544E9CFA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A4E9-BAFA-4393-ADD3-9B81F65C0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B23D-8B9A-4D02-8F5A-BE172469E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09ED-1A6A-427C-99AE-FF899DE72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CD07-8AE2-46C4-BDB7-B0BE67540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9FB4-F52F-4175-ACE9-23A3D7B99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2E20-251F-4E00-A3C4-DE10230DD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2003-D06F-4907-8187-79176D11A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F727-1E36-42C3-8949-C1B4DA853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BBFC-B091-45E8-8D36-9E95731AA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7BE1A-39CF-4BE5-BABC-A90D44DB55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By Jasmine Morg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447920" y="0"/>
            <a:ext cx="48006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BARACK OBAMA</a:t>
            </a:r>
            <a:endParaRPr b="0" lang="en-US" sz="4800" spc="1" strike="noStrike">
              <a:ln w="9360">
                <a:solidFill>
                  <a:srgbClr val="ff33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46b892"/>
                </a:solidFill>
                <a:latin typeface="French Script MT"/>
              </a:rPr>
              <a:t>Bio On Obam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Frenc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ench Script MT"/>
              </a:rPr>
              <a:t>Barack Obama was born to a white American mother, Ann Dunham, and a black Kenyan father, Barack Obama, Sr., who were both young college students at the University of Hawai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Frenc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ench Script MT"/>
              </a:rPr>
              <a:t>Obama attended Columbia University, but found New York's racial tension inescapab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Frenc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ench Script MT"/>
              </a:rPr>
              <a:t>He then attended Harvard Law School, and in 1990 became the first African-American editor of the Harvard Law Review.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724280" y="4724280"/>
            <a:ext cx="2667240" cy="1905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828800" y="5029200"/>
            <a:ext cx="21337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French Script MT"/>
              </a:rPr>
              <a:t>More Little Inf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urlz MT"/>
              </a:rPr>
              <a:t>While Obama was in Harvard Univ., he meet Michelle Oba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urlz MT"/>
              </a:rPr>
              <a:t>Both of the two love birds got married around 199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urlz MT"/>
              </a:rPr>
              <a:t>In 1998, they had their first child Malia Oba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urlz MT"/>
              </a:rPr>
              <a:t>Then in 2001, they had their second child Sasha Oba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urlz MT"/>
              </a:rPr>
              <a:t>And they are both the first African-American angels in Amer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Rosewood Std Regular"/>
              </a:rPr>
              <a:t>OBAMA P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1343160" cy="1752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715000" y="1371600"/>
            <a:ext cx="2797200" cy="4343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3124080" y="1523880"/>
            <a:ext cx="2214720" cy="3505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380880" y="3124080"/>
            <a:ext cx="237168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Rosewood Std Regular"/>
              </a:rPr>
              <a:t>A Picture Of obama and McCa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French Script MT"/>
              </a:rPr>
              <a:t>First African-American Presid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428920" y="1143000"/>
            <a:ext cx="4352760" cy="51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16:27:10Z</dcterms:created>
  <dc:creator>004student</dc:creator>
  <dc:description/>
  <dc:language>en-US</dc:language>
  <cp:lastModifiedBy>004student</cp:lastModifiedBy>
  <dcterms:modified xsi:type="dcterms:W3CDTF">2008-11-20T17:12:08Z</dcterms:modified>
  <cp:revision>2</cp:revision>
  <dc:subject/>
  <dc:title>Slide 1</dc:title>
</cp:coreProperties>
</file>